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690-C3BD-4DA3-9566-E4933B4B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5FC-8D49-41D0-AB71-B6269EF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070-0905-426A-A900-C96569B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F6D-6D70-4D2E-BDCB-DE5E525A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139B-4278-43F3-AC2E-AC885F1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BA2-85BD-442E-9AF7-9C4AA7B6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E840-57D2-4234-A028-42F80FD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D64F-9BCF-4B21-8BD7-225AE91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EF1-9893-4FA0-AC76-C5D7C99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515B-7247-44CB-83E7-FB2E894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EC6-0A31-40B7-BE9E-72A85FD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656-2017-4173-9213-EBCF9F90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CE7C-6079-42FC-8ADE-86F5983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086-250C-4139-B18B-770B428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4F84-E5A9-47B1-875A-4724E75E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9DA9-E0F8-4DAE-8218-B14D30B1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D64-81E4-438D-99F3-BD89F41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413B-E2EC-4FDF-A8DC-0E02FE71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344F-6594-4006-A866-845C238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E675-45E4-4FBA-9D68-DDDE0A40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6CCD-43A3-4D7C-AD32-211F8A9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5162-F704-4C56-A886-0373C8A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E32-888B-43C7-9E4C-443C71C4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AC68-551D-4E25-871B-570A7E5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3632-9484-4725-97B1-7EA1651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D3BF-626A-4A58-8F7F-BCF0874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BF01-2C86-429B-8B23-DF49B8E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B46B-6801-48A1-8AF2-7EDDC28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4DA3-ADEE-4ED2-BB6E-804C8ED9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D5AA-EDB6-4D6F-86D1-C63A6B3F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90A1-95CE-429B-8000-980E6E43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622A-F3A1-4899-8E81-31FAB2E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F598-BC91-4077-AAA7-5702987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5FA-809E-4A83-A9A6-1FCAEF03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9068-8C82-4C44-9E7E-07690ED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9826-711F-4F43-8B98-07117EE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EEF6-4ADF-4C9E-835F-F92C9B95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6255-F83D-4B7C-887B-D077FE4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3B49-70EA-4FC9-BBE0-FBDB4BDD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6A68-204A-4D7D-B3B6-7565BC3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0AD6-F4A2-4B6C-A62B-85172D6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4983-3259-4AD7-A1A6-242DD1F6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CE71C-3192-407E-98F8-2C016CF5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A1E3-47C2-4B90-A706-50F285B0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D37-FC79-451F-92F2-779ADA5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4932A-A4CA-4578-B1C9-96586F2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F6113-6D25-4FFA-B4C9-970C25F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8C8B-43BF-4530-ACDD-2652C640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B89F-15C8-45B6-AB0D-B92FDB4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BF98-F731-4B91-8EB0-E19853F3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141A-4BF0-4990-AE0A-593D1A2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F554-7FAC-4BDC-849C-0644001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67640-BFB5-41E9-94CD-6638D2F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B0F1-3941-465A-BA1F-7D4E062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6E5E-0C8E-4AB2-A0FF-1A7C69BA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FD3-DF09-4EA2-B4D1-E69BCEA2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8B5C-F88D-483C-924F-D974C933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CE2D-AA9D-46A5-A20B-C482AF7F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2FCF-EEA4-451E-81B9-3AAF5BEC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F921-3E2C-47C0-9D54-DB1F6DF5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B5BB-18FC-40A8-B1D0-4AB5B66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0C4F-4232-47E8-B81D-4D71FA4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B7EC-445A-489F-BDCD-F4194591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3723-0954-49C6-9193-2A7D2CD3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5559-973E-46E5-8044-8DE77C16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7DE5-B1AB-401C-8512-4D39CD0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4CE-1A6D-4305-8C5A-D0D6D68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6570-5820-4134-A3CB-6FFC84E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7B20-99EB-44CF-ACA5-E4FDF50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A5B4-D77E-4FC9-BA70-10EC5017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8C43-2362-44B8-AE3D-01B742FC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71C8-AEB6-4C1D-BAD5-D25237C5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56B50-4909-44E1-96A4-4EF21F4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B605-50C1-4D70-9790-7A7CB15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FBAF-C1DC-410E-85BB-5FED71C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1490-B6C2-4CFA-83DD-96B5AB68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8FC1-20E4-44EF-9388-802E952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280-0A5D-48B1-BF67-6354105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DF42-BA92-4160-A590-E0FC1EF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FB6C-BF80-4F30-AEEA-4580740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A062-FD71-4073-949C-FBF620F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46D2-B09E-49A3-872C-C82349C0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0BD3-075A-4E40-B7DF-521C16C9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487-CB01-4E48-A852-FB3F117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5660D-3987-4FD0-8537-C1808BA2117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D3D67-4FD6-4131-9482-C18EA3274DE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5DD9F-D003-4E32-9013-40F98E88C1B9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0B36-334D-42B9-895E-F29DF16912C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6A8AB-8CD4-4923-B9F5-F9B7F0D844A1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64BCD-865D-47CA-B33A-17E3208BF4D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418E9-FB3C-411F-A216-E3C75C72372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85363-CA9D-4030-8DE1-13DB2CB06DF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94907-FB33-4DEE-BD0F-96A3A47245A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B4229-99C6-481C-8AA0-51569E48E8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0F78D-29AE-4F0F-8907-9795E8F9801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0EDFB-04A9-4FD0-9A1C-6E06AD01CDF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59053-4A72-408E-997F-E8D0CF69A72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15051-6670-40C5-91CC-E1BA9293FE5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73200" y="3352680"/>
            <a:ext cx="808992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iology 2122 – Chapters  17-18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407600"/>
            <a:ext cx="8229600" cy="545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Antimicrobial Proteins attack pathogens directly or indirectly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1. Interfero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2. Complement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1. Interferons (IFNs) are small proteins that are secreted by cells infected by viruses to protect other cells which have not been infected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rbel"/>
              </a:rPr>
              <a:t>Stimulate the synthesis of proteins that interfer with viral replication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Lymphocytes secrete gamma IFN; Others secrete alpha IFN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rbel"/>
              </a:rPr>
              <a:t>May activate NK cells and macrophages – they attack cancerous cells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407600"/>
            <a:ext cx="8229600" cy="545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nclude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rbel"/>
              </a:rPr>
              <a:t>20 plasma protein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– circulate in their inactive form in the bloo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Releas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rbel"/>
              </a:rPr>
              <a:t>chemical mediator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en activat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at do they do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1. amplify the </a:t>
            </a:r>
            <a:r>
              <a:rPr b="1" i="1" lang="en-US" sz="2800" spc="-1" strike="noStrike">
                <a:solidFill>
                  <a:srgbClr val="ff0000"/>
                </a:solidFill>
                <a:latin typeface="Corbel"/>
              </a:rPr>
              <a:t>inflammatory proc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i="1" lang="en-US" sz="2800" spc="-1" strike="noStrike">
                <a:solidFill>
                  <a:srgbClr val="ff0000"/>
                </a:solidFill>
                <a:latin typeface="Corbel"/>
              </a:rPr>
              <a:t>kill pathogens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(via lysis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3.  complement both specific and nonspecific immune respons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ystemic response to invading microorganism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yrogen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(chemicals) are released by leukocytes and macrophages exposed to a pathog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s </a:t>
            </a:r>
            <a:r>
              <a:rPr b="1" i="1" lang="en-US" sz="2400" spc="-1" strike="noStrike">
                <a:solidFill>
                  <a:srgbClr val="ff0000"/>
                </a:solidFill>
                <a:latin typeface="Corbel"/>
              </a:rPr>
              <a:t>body temperatur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be reset (hypothalamus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ld or Moderate Fever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 the liver and spleen to hold onto </a:t>
            </a:r>
            <a:r>
              <a:rPr b="1" i="1" lang="en-US" sz="2400" spc="-1" strike="noStrike">
                <a:solidFill>
                  <a:srgbClr val="ff0000"/>
                </a:solidFill>
                <a:latin typeface="Corbel"/>
              </a:rPr>
              <a:t>Fe and Zn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inhibits bacteria from replicating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ncreases metabolic rate of cells which increases heal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1079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03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ecific against a single pathog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ystemic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mory capabiliti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Humoral Immun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-Cell Lymphocytes produce antibodies that circulate in the blood and lymp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rbel"/>
              </a:rPr>
              <a:t>Antibodi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bind to a specific antigen and immobilize them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ther immune system cells will eliminate the antigen (phagocytic cells) or complement system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079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3352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ell-mediated Immun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ymphocytes defend the bo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nters on Cellular targe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Virus infected cells; parasite infected cells; cancer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Action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rect targets (lyse cell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direct targets  (release chemical mediators that enhance the immune respons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4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rbel"/>
              </a:rPr>
              <a:t>Antig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oke an immune respon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Complete Antig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b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nucleic acids, lipids, polysaccharides, proteins, pollen grain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Hapte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Peptides, nucleotides, hormon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ind to Antibod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tigenic determi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tibody-Antigen Complexes”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3"/>
          <p:cNvSpPr/>
          <p:nvPr/>
        </p:nvSpPr>
        <p:spPr>
          <a:xfrm>
            <a:off x="628560" y="1765440"/>
            <a:ext cx="827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Antigenic Determinants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– location on antigen that is immunogenic. When a lymphocyte or antibody binds to this area, the lymphocyte and/or antibody will begin prolife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en binding occurs, an immune response will take plac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4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B-Lymphocyt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duce antibodie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duced and mature in bone marr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n directly encounter antige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ause “clonal selection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Antibodies directly encounter antige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ymph and lymph nod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vokes an immune respon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Humoral Reponse”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44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rbel"/>
              </a:rPr>
              <a:t>Actively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You become infected (Natural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Vaccine (Artificiall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rbel"/>
              </a:rPr>
              <a:t>Passively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Serum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other to fetu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Antibodies provide very little protection against antigens that invade body cell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T-lymphocytes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-Cel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rbel"/>
              </a:rPr>
              <a:t>CD-4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lper Cel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rbel"/>
              </a:rPr>
              <a:t>CD-8 (T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Corbel"/>
              </a:rPr>
              <a:t>c</a:t>
            </a:r>
            <a:r>
              <a:rPr b="1" i="1" lang="en-US" sz="2400" spc="-1" strike="noStrike">
                <a:solidFill>
                  <a:srgbClr val="ff0000"/>
                </a:solidFill>
                <a:latin typeface="Corbel"/>
              </a:rPr>
              <a:t> Cytotoxic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stroy intracellular antigen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-Cells cannot encounter antigens directly, they must depend on APC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. Nonspecific (Innate) Defen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rbel"/>
              </a:rPr>
              <a:t>First-Lin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Skin and Mucosae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rbel"/>
              </a:rPr>
              <a:t>Second-Lin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Antimicrobial proteins; phagocytes; immune cells and inflamma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. Specific (Adaptive) Defen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rbel"/>
              </a:rPr>
              <a:t>Lymphocytes; antibodi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Functional Syste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rbel"/>
              </a:rPr>
              <a:t>Following Activation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10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D4 --------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rbe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10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D8 ------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rbel"/>
              </a:rPr>
              <a:t>C  and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rbe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63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timulate both Humoral and Cell-Mediated Immunit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orbel"/>
              </a:rPr>
              <a:t>Humo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-cell encounters an antigen, binds with helper T-cell.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then releases interleukins (co-stimulatory) to complete B-cell activation and rapid replication. Also results in rapid antibody formatio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orbel"/>
              </a:rPr>
              <a:t>Cell Mediated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binds to an APC (dendritic cell). CD8 cell binds to APC as well. Causes APC to release co-stimulatory molecules to activate the CD8 cell. 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releases interleukins to also activate CD8 cell. Cloning follows --------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rbe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cells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26800" y="1774800"/>
            <a:ext cx="845964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Corbel"/>
              </a:rPr>
              <a:t>The only T-cell </a:t>
            </a: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that can directly attack and kill other cells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rbel"/>
              </a:rPr>
              <a:t>Target</a:t>
            </a: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irus infected cell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racellular bacteria infected cell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rbel"/>
              </a:rPr>
              <a:t>Killing Method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Corbel"/>
              </a:rPr>
              <a:t>1. perforins -----</a:t>
            </a:r>
            <a:r>
              <a:rPr b="1" lang="en-US" sz="26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800000"/>
                </a:solidFill>
                <a:latin typeface="Corbel"/>
              </a:rPr>
              <a:t> holes and lysi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2. granzymes ---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 protease enters pores and degrades cell -----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rbel"/>
              </a:rPr>
              <a:t> apoptosi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rbel"/>
              </a:rPr>
              <a:t>Slows down the immune response! </a:t>
            </a:r>
            <a:endParaRPr b="0" lang="en-US" sz="7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1. Epidermis (keratin) provide a tough barrier to penetrat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rbel"/>
              </a:rPr>
              <a:t>Tight junctions, resistant to weak acids, bases, toxins, etc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. Mucous Membranes – Physical Barrie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3-5 pH, lipids (sebum) inhibits bacteria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HCl – stomach (pH = 2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rbel"/>
              </a:rPr>
              <a:t>Saliva and Lysozymes (eyes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ucus (physically trap bacteria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surface defenses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are broken, antigens will invade deeper tissu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1. Nonspecific Cells and Chemicals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rbel"/>
              </a:rPr>
              <a:t>Phagocyt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Neutrophils (most abundant), Eosinophi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rbel"/>
              </a:rPr>
              <a:t>Natural Killer Cell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Cancer cells and virus infected body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ranular lymphocytes not specific; kill by inducing programmed cell death (apoptosis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lease cytolytic chemicals called </a:t>
            </a:r>
            <a:r>
              <a:rPr b="0" lang="ja-JP" sz="2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erforins</a:t>
            </a:r>
            <a:r>
              <a:rPr b="0" lang="ja-JP" sz="20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rbel"/>
              </a:rPr>
              <a:t>Mast Cel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2. Tissue Damage ------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 Inflammatory Response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-360" y="1774800"/>
            <a:ext cx="9286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Monocytes  --------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leave bloodstream ------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Macrophages (main)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9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rbel"/>
              </a:rPr>
              <a:t>Fre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: in alveoli of lungs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9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rbel"/>
              </a:rPr>
              <a:t>Fixed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: Kupffer cells in liver; microglia in brai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9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rbel"/>
              </a:rPr>
              <a:t>Neutrophils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re most abundant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10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29680" y="2130480"/>
            <a:ext cx="8456760" cy="2868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1. Phagosome vesicle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2. Phagolysosome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3. Adherence and Opsonization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4. Respiratory Burst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. Prevents the spread of </a:t>
            </a:r>
            <a:r>
              <a:rPr b="1" i="1" lang="en-US" sz="3200" spc="-1" strike="noStrike">
                <a:solidFill>
                  <a:srgbClr val="ff0000"/>
                </a:solidFill>
                <a:latin typeface="Corbel"/>
              </a:rPr>
              <a:t>damage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to internal tiss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. Gets rid of </a:t>
            </a:r>
            <a:r>
              <a:rPr b="1" i="1" lang="en-US" sz="3200" spc="-1" strike="noStrike">
                <a:solidFill>
                  <a:srgbClr val="ff0000"/>
                </a:solidFill>
                <a:latin typeface="Corbel"/>
              </a:rPr>
              <a:t>cell debris and pathog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3. Allows for </a:t>
            </a:r>
            <a:r>
              <a:rPr b="1" i="1" lang="en-US" sz="3200" spc="-1" strike="noStrike">
                <a:solidFill>
                  <a:srgbClr val="ff0000"/>
                </a:solidFill>
                <a:latin typeface="Corbel"/>
              </a:rPr>
              <a:t>repair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to occu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orbel"/>
              </a:rPr>
              <a:t>Signs of inflammation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: redness, heat, swelling and pai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 cells ----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istamine (vasodilator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jured tissue, phagocytes ----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rbel"/>
              </a:rPr>
              <a:t>kinans, prostaglandins, leukotrienes, complement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hemical mediators”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Leads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pillary permeability and pain sens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yperemia, Exud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7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Vasodilation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of Blood Vessels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aster flow of blood, aids in getting proper WBCs to the site of inflammation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. Increased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Permeability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of Capillaries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luid leaks out (exudate) into extracellular spa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llows for clotting factors; antibodi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3. Swelling (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Edema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ilutes harmful substances; brings in oxygen and nutrients; clotting proteins, etc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7:04:17Z</dcterms:created>
  <dc:creator>GHC</dc:creator>
  <dc:description/>
  <dc:language>en-US</dc:language>
  <cp:lastModifiedBy>Andrew Dawson</cp:lastModifiedBy>
  <dcterms:modified xsi:type="dcterms:W3CDTF">2018-03-01T18:52:48Z</dcterms:modified>
  <cp:revision>16</cp:revision>
  <dc:subject/>
  <dc:title>The Immune System </dc:title>
</cp:coreProperties>
</file>